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F48-FB1D-40D1-B2C5-7EE4917C3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EA86-7A04-4820-963A-6F3A0510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CFF-672B-4173-BD20-02308A2B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552-F77F-44CD-8A64-9D222F64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7209E-8E3F-4397-BC62-99900250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653C-F5ED-4DA0-9545-484DA3C2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5990-EC8B-43EF-B4F8-30CE6555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ED8B-9E12-4F4A-B79E-AF95506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55E0-B0F2-478D-A471-0276CA1D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EF32-090A-4291-9263-113E42BE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3F2F-1B7F-41BC-BBF1-02BD04B1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6A67-C01B-4DBD-823A-90DC93C6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31BC-ED34-49FA-99E7-5ABBA2E28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8306-1A2E-4FFD-9887-B2EA1254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B897-7054-4679-AA4A-0189744A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B497-A5E4-4A90-84CC-C9E1241B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49A5-3CAC-44E2-A927-A3E652E3F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0AED2-03FA-498C-9ADB-63D2A814F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F909-67B9-4C1E-BC7D-4009ECA8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7D740-D989-46E1-A70D-A0A3E6B9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132E3-36FA-44CB-8AA3-CCA001F1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9E1B9-602D-4F74-8B4D-C08DCDA7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A520-DCD5-4040-AA76-7EBA9C7E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678D6-AD47-4D32-A86A-A62EC3E6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7944-FB23-46C5-9BC7-0E2C9572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8F03A-0FDC-4BA3-A704-5C71EDA4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D7B1C-2EBB-4CAE-97DD-153A5346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23F1B-3113-4596-A907-2F4694BA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D42E7-8829-4A88-97FF-B4A81467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76E1-1980-41A2-B733-9C58B2FED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0260C-4D3F-4120-9C68-AD9372D2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5762B-8725-461F-8434-C4940265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BF61E7-3850-4C10-971D-7FF8107A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D4BF-F966-4D13-8FE7-5900BD2E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7BB6D6-8CEA-4C15-8A95-62181CE7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71230F-0017-4F21-B94E-92F5B82D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427CB-C87B-4AA9-BF5A-483B05A2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A97D7-4DA9-4141-B442-3C3EE19C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71056-1A8F-4EF9-A67C-1DD64A65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60E8A-E38C-4F86-BA41-6FA5BD6C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8AE4C3-EAF1-4F6B-A632-369D38C8B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E6BEAA-3B44-43CB-AF3C-05894FCA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802741-B842-463A-B867-894DA9558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CF1CF1-4E35-4931-BCBD-9363BE19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0AB6-2B14-4168-AC6C-D2D58022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7ED6F8-2991-4705-8150-2015770A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DB8CF-CBB8-4464-A6F3-250A00584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1ED646-7F6B-4166-8175-16524139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1A642C-0BB3-4F76-BBDF-0E7283B0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4163EF-B9C0-432F-8944-658F02AA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563250-4ABE-47E7-9850-F7FD860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4DBBDB-F67D-42F7-8E4E-D6A810C1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EFA34A-E551-43EC-A3E6-214500A9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DCD613-CCF1-4912-BA22-312D9FB9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76FAEC-F81E-423A-B42F-42040C0F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B9B-DB5B-4F3E-86B3-AAE9B7BC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F1D456-5DEF-4ED9-8B45-89F246F0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58DE9-8B63-482E-A7F7-24C82F380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8AC389-39F4-4A2D-910F-BCAC01B0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82CA04-6DC3-4372-A1E8-248AB9F6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126D2F-864E-4D0C-A427-3ADB95F2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F2B99-9E51-4500-8026-ACFE0D83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FB9FF5-C027-4C1C-9281-8FD952AC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2A65C6-27B1-44BD-8552-BF3CB294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AB4DB-6361-4304-953A-8D08BBF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4C080-8A23-423F-87EC-F338AF4F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5A8-D99E-4FEE-A5AD-7C5F1EFE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3426FC-2C08-4AC3-B09E-D378430C9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35F343-041C-478B-AF0F-EB0ED835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3C8AD3-0B43-4880-92F2-C13E20C8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9FE4-4ACC-42C8-A8A0-BAEFC860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335-3054-46A6-8F94-98C0C82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252F-AA82-4206-B3F4-9986FE352C3C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95CC-A094-4286-8F0D-C6093FBC65B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aabbd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ccd5ea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ccd5ea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7ebf5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aabbd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7ebf5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aabbd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aabbd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bf5f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bf5f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19DEC-E3BD-42FB-A3D2-778AA33F813F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6806-3763-4E8C-A9A3-73A1E3279F58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F786-5C2C-4678-ACB0-700AA7CC6E34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aab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aab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0c61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aabbd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aacc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884C-042C-44DF-9F64-B762D58C852D}" type="slidenum">
              <a:rPr b="1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solidFill>
            <a:srgbClr val="85dfd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ИКРОПРОЦЕССОРЫ И МИКРОКОНТРОЛЛЕРЫ</a:t>
            </a:r>
            <a:br>
              <a:rPr sz="22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br>
              <a:rPr sz="1600"/>
            </a:br>
            <a:endParaRPr b="0" lang="en-US" sz="1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68000" y="1341000"/>
            <a:ext cx="7467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617b"/>
                </a:solidFill>
                <a:latin typeface="Arial"/>
              </a:rPr>
              <a:t>ВВЕД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известно, процессор является основным вычислительным блоком компьютера, в наибольшей степени определяющим его мощь. Процессор является устройством, исполняющим программу - последовательность команд (инструкций), задуманную программистом и оформленную в виде модуля программного кода. Чтобы понять, что делает процессор, рассмотрим его в окружении системных компонентов IBM PC-совместимого компьютера. Этой компьютерной архитектурой, естественно, не ограничивается сфера применения процессоров. Всем известный IBM PC-совместимый компьютер представляет собой реализацию так называемой фон-неймановской архитектуры вычислительных машин. Эта архитектура была представлена Джоном фон-Нейманом еще в 1945 году и имеет следующие основные признаки. Машина состоит из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блока управления, арифметико-логического устройств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АЛУ),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амяти и устройств ввода/вывод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ней реализуе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нцепция хранимой программы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граммы и данные хранятся в одной и той же памяти. Выполняемые действия определяются блоком управления и АЛУ, которые вместе являются основой центрального процесс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6" descr="D:\vvsu.gif"/>
          <p:cNvPicPr/>
          <p:nvPr/>
        </p:nvPicPr>
        <p:blipFill>
          <a:blip r:embed="rId1"/>
          <a:stretch/>
        </p:blipFill>
        <p:spPr>
          <a:xfrm>
            <a:off x="142920" y="0"/>
            <a:ext cx="838080" cy="37296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В.В. Сивченко, ст. преп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микропроцессора i8080 предусматривает возможность обмена как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так и в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синхронн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ежиме. Если в составе МПС использованы только "быстрые" устройства, т.е. такие, которые могут работать с тактовой частотой МП, то передача информации в МЦ осуществляется в синхронном режиме. В этом случае на вход READY МП подается константа "1" и после такта T2 начинается такт T3. При работе с "медленными" устройствами, быстродействие которых не позволяет переключаться с частотой тактового генератора МП, необходимо "растянуть" во времени МЦ, реализовав асинхронный принцип обмена. Для этого в начале МЦ обмена с "медленными" устройствами на входе READY формируется уровень логического нуля. В такте T2 МП анализирует состояние READY, и если READY = 0, то МП после T2 переходит не к T3, а к такту ожидания Tw, который может длиться произвольное число периодов тактового генератора. Переход к T3 осуществляется по фазе Ф1, если в предыдущей Ф2 READY установился в "1". С помощью входа READY можно не только согласовывать работу МП с устройствами различного быстродействия, но и реализовывать пошаговый и потактовый режимы работы М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МЦ"/>
          <p:cNvPicPr/>
          <p:nvPr/>
        </p:nvPicPr>
        <p:blipFill>
          <a:blip r:embed="rId1"/>
          <a:stretch/>
        </p:blipFill>
        <p:spPr>
          <a:xfrm>
            <a:off x="154080" y="357120"/>
            <a:ext cx="7775640" cy="478656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2343600" y="5357880"/>
            <a:ext cx="44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2. Временная диаграмма МЦ "ПРИЕМ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в машинном цикле выполняются следующие действ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адрес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ча информации о начатом МЦ (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нализ значения входных сигналов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ожидание сигнала READY = 1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ем/выдача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необходимости - внутренняя обработка/пересылка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реализации одного МЦ процессор может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команды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памяти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УВв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из стека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нять вектор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память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в стек байт данных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дать на УВыв байт данн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носительно выходных сигналов МП все перечисленные выше разновидности МЦ отличаются только направлением передачи данных: в МП - циклы 1..5 (ПРИЕМ), из МП - циклы 6..8 (ВЫДАЧ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МЦ2"/>
          <p:cNvPicPr/>
          <p:nvPr/>
        </p:nvPicPr>
        <p:blipFill>
          <a:blip r:embed="rId1"/>
          <a:stretch/>
        </p:blipFill>
        <p:spPr>
          <a:xfrm>
            <a:off x="285840" y="428760"/>
            <a:ext cx="7667640" cy="47862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3"/>
          <p:cNvSpPr/>
          <p:nvPr/>
        </p:nvSpPr>
        <p:spPr>
          <a:xfrm>
            <a:off x="2235600" y="5500800"/>
            <a:ext cx="45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.9.3. Временная диаграмма МЦ "ВЫДАЧА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фицит внешних выводов МП не позволяет выводить во внешний интерфейс достаточный для эффективного функционирования объем управляющей информации. Для выдачи более полной информации о состоянии МП в текущем МЦ используется мультиплексирование шины данных. В начале каждого МЦ на линии шины данных D[7:0] выдается байт дополнительной управляющей информации (т.н. PSW), разряды которого имеют следующее назнач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0 - подтверждение прерыва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1 - запись (в ЗУ) или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2 - обращение в стек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3 - подтверждение остано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4 - вывод (на УВы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5 - M1 (считывание из памяти первого байта команды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6 - ввод (из УВв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D7 - чтение (из ЗУ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личие на D[7:0] управляющей информации отмечается специальным выходным сигналом SY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йт управляющей информации присутствует на шине данных (ШД) один такт, а использоваться может в течение всего МЦ. Поэтому в МПС, использующих информацию PSW, предусматривается специальный, внешний по отношению к МП, регистр-защелка для фиксации PSW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ый процессор выбирает и исполняет команды из памяти последовательно, адрес очередной команды задается "счетчиком адреса" в блоке управления. Этот принцип исполнения называется последовательной передачей управления. Данные, с которыми работает программа, могут включать переменные - именованные области памяти, в которых сохраняются значения с целью дальнейшего использования в программе. Фон-неймановская архитектура - не единственный вариант построения ЭВМ, есть и другие, которые не соответствуют указанным принципам (например, потоковые машины). Однако подавляющее большинство современных компьютеров основано именно на этих принципах, включая и сложные многопроцессорные комплексы, которые можно рассматривать как объединение фон-неймановских машин. Конечно же, за более чем полувековую историю ЭВМ классическая архитектура прошла длинный путь развития. В общем смысле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цессора понимается его программная модель, то есть программно-видимые свойства. П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икроархитектуро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нимается внутренняя реализация этой программной модели. Для одной и той же архитектуры разными фирмами и в разных поколениях применяются существенно различные микроархитектурные реализации, при этом, естественно, стремятся к максимальному повышению производительности (скорости исполнения программ). Сейчас существует множество архитектур процессоров, которые делятся на две глобальные категории - RISC и CISC. RISC - Reduced (Restricted) Instruction Set Computer - процессоры (компьютеры) с сокращенной системой коман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и процессоры обычно имеют набор однородных регистров универсального назначения, причем их число может быть большим. Система команд отличается относительной простотой, коды инструкций имеют четкую структуру, как правило, с фиксированной длиной. В результате аппаратная реализация такой архитектуры позволяет с небольшими затратами декодировать и выполнять эти инструкции за минимальное (в пределе 1) число тактов синхронизации. Определенные преимущества дает и унификация регистров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CISC - Complete Instruction Set Computer - процессоры (компьютеры) с полным набором инструкций, к которым относится и семейство х86. Состав и назначение их регистров существенно неоднородны, широкий набор команд усложняет декодирование инструкций, на что расходуются аппаратные ресурсы. Возрастает число тактов, необходимое для выполнения инструкций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ссоры х86 имеют самую сложную в мире систему команд. Хорошо ли это, вопрос спорный, но груз совместимости с программным обеспечением для IBM PC, имеющим уже 20-летнюю историю, не позволяет расставаться с этим "наследием тяжелого прошлого". В процессорах семейства х86, начиная с 486, применяется комбинированная архитектура - CISC-процессор имеет RISC-ядр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Содержимое 4"/>
          <p:cNvSpPr/>
          <p:nvPr/>
        </p:nvSpPr>
        <p:spPr>
          <a:xfrm>
            <a:off x="457200" y="285840"/>
            <a:ext cx="746748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личают следующие способы организации вычислительного процесс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один поток данных (Simple Instruction - Simple Data, SISD) - характерно для традиционной фон-неймановской архитектуры (иногда вместо Simple пишут Single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дин поток команд - множественный поток данных (Simple Instruction - Multiple Data, SIMD) - технология MMX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один поток данных (Multiple Instruction - Simple Data, MISD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ожественный поток команд - множественный поток данных (Multiple Instruction - Multiple Data, MIMD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-РАЗРЯДНЫЙ МИКРОПРОЦЕССОР </a:t>
            </a:r>
            <a:r>
              <a:rPr b="1" lang="en-US" sz="2200" spc="-1" strike="noStrike">
                <a:solidFill>
                  <a:srgbClr val="04617b"/>
                </a:solidFill>
                <a:latin typeface="Arial"/>
              </a:rPr>
              <a:t>I</a:t>
            </a: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8080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599840"/>
            <a:ext cx="74674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  Рис. 9.1 представлена внутренняя структура МП i8080, включающего в себя 8-разрядное АЛУ с буферным регистром и схемой десятичной коррекции, блок РОН, регистры указателя стека SP и счетчика команд PC, первичный управляющий автомат УА, буферные схемы шин адреса и данных и схему управления систе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ешний интерфейс представлен 8-разрядной двунаправленной шиной данных D[7:0], 16-разрядной шиной адреса A[15:0] и группой линий  управления. Назначение входных и выходных линий МП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[7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вунаправленная шина данных служит для приема и выдачи данных, приема команды, приема вектора прерывания, выдачи дополнительной управляющей информации (слово PSW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[15:0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однонаправленная шина адреса служит для выдачи адреса памяти и устройств ввода/выво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1,Ф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игналы тактового генератора частотой 1..2,5 МГ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i8080"/>
          <p:cNvPicPr/>
          <p:nvPr/>
        </p:nvPicPr>
        <p:blipFill>
          <a:blip r:embed="rId1"/>
          <a:stretch/>
        </p:blipFill>
        <p:spPr>
          <a:xfrm>
            <a:off x="428760" y="214200"/>
            <a:ext cx="6643440" cy="583560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3366360" y="62866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исунок 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357120"/>
            <a:ext cx="74674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сброс (начальная установка и запуск программы с адреса 0000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ходной сигнал готовности памяти или ВУ к обмену (обеспечивает асинхронный режим обмена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рос внешнего преры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O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хват шины (требование прямого доступа в память со стороны ВУ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запись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роцессора к памяти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ли В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чтение - выходной сигнал, определяющий направление передачи информации по шине данных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т памяти или ВУ к процессор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YN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идентифицирующий наличие на шине данных дополнительной управляющей информации (PSW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отмечающий состояние ожидания или останова МП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внешних преры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LDA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выходной сигнал, подтверждающий режим прямого доступа в память (подтверждение захват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КОМАНДНЫЙ ЦИКЛ МИКРОПРОЦЕССОРА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П работает в составе МПС, обмениваясь информацией с памятью и ВУ. В основе работы МП лежит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командный цик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ействия по выбору из памяти и выполнению одной команды. В зависимости от типа и формата команды, способов адресации и числа операндов командный цикл может включать в себя различное число обращений к памяти и ВУ и следовательно - иметь различную дли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юбой командный цикл (КЦ) начинается с извлечения из памяти первого байта команды по адресу, хранящемуся в PC, что команды i8080 имеют длину 1, 2 или 3 байта, причем в первом байте содержится информация о длине команды. В случае 2- или 3-байтовой команды реализуются дополнительные обращения к памяти по соседним (большим) адресам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 считывания команды начинается ее выполнение, причем в процессе выполнения может потребоваться еще одно или несколько обращений к памяти или ВУ (чтение операнда, запись результата)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реализации команды i8080 может потребоваться от 1 до 5 обращений к памяти (ВУ). Хотя обращения к ЗУ/ВУ располагаются в разных частях КЦ, выполняются они по единым правилам, соответствующим интерфейсу МПС и реализованы на общем оборудовании управляющего автомата. Действия МПС по передаче в/из МП одного байта данных/команды называютс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ашинным циклом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80" indent="-4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4617b"/>
                </a:solidFill>
                <a:latin typeface="Arial"/>
              </a:rPr>
              <a:t>МАШИННЫЕ ЦИКЛЫ И ИХ ИДЕНТИФИКАЦИЯ</a:t>
            </a:r>
            <a:br>
              <a:rPr sz="2200"/>
            </a:b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мандный цикл представляет собой последовательность машинных циклов (МЦ), причем КЦ i8080 может содержать от 1 до 5 МЦ, которые принято обозначать M1, M2,..M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Ц обязательно включает в себя действия по передаче байта информации. Кроме того, в некоторых МЦ дополнительно реализуются действия по пересылке и/или преобразованию информации внутри МП. Поэтому длительность МЦ может быть различной - за счет различного числа содержащихся в них машинных тактов (T1, T2,...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шинный такт (такт) образует пара сигналов тактового генератора Ф1, Ф2, поэтому длительность такта постоянна - период тактового генератора (за исключением такта Tw - см. ниж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им образом, просматривается иерархия процедур при работе микропроцессора (не только i8080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омандный цикл - Машинный цикл - Машинный та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"/>
            </a:br>
            <a:r>
              <a:rPr b="0" i="1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ому такту соответствует определенное состояние управляющего автомата. Любой МЦ i8080 обязательно содержит такты T1, T2, T3, предназначенные для передачи байта по интерфейсу. МЦ, в которых осуществляется передача и/или преобразование информации в МП, содержат дополнительно один или два такта T4, T5. МП i8080 вырабатывает несколько типов МЦ, основными из которых являются циклы ПРИЕМ и ВЫДАЧ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31:08Z</dcterms:created>
  <dc:creator>Evgeniy</dc:creator>
  <dc:description/>
  <dc:language>en-US</dc:language>
  <cp:lastModifiedBy>Сивченко</cp:lastModifiedBy>
  <dcterms:modified xsi:type="dcterms:W3CDTF">2009-06-16T23:08:11Z</dcterms:modified>
  <cp:revision>21</cp:revision>
  <dc:subject/>
  <dc:title>Микропроцессоры и микроконтроллеры </dc:title>
</cp:coreProperties>
</file>